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685800" y="2209680"/>
            <a:ext cx="7391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lesson 9 In the Bedroom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600200" y="0"/>
            <a:ext cx="6934320" cy="6524640"/>
            <a:chOff x="1600200" y="0"/>
            <a:chExt cx="6934320" cy="652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09680" y="0"/>
              <a:ext cx="39387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00200" y="4419720"/>
              <a:ext cx="6934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I play with my teddy bear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57200" y="609480"/>
            <a:ext cx="3124080" cy="2782800"/>
            <a:chOff x="457200" y="609480"/>
            <a:chExt cx="3124080" cy="27828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784440" y="609480"/>
              <a:ext cx="244368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7200" y="2079360"/>
              <a:ext cx="3124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I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 clean</a:t>
              </a: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 my bedroo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791320" y="3279600"/>
            <a:ext cx="2895480" cy="3577680"/>
            <a:chOff x="5791320" y="3279600"/>
            <a:chExt cx="2895480" cy="35776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6045480" y="3279600"/>
              <a:ext cx="1644480" cy="21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791320" y="5117400"/>
              <a:ext cx="2895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play with my teddy bea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371600" y="3554280"/>
            <a:ext cx="3505320" cy="3305520"/>
            <a:chOff x="1371600" y="3554280"/>
            <a:chExt cx="3505320" cy="33055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1962360" y="3554280"/>
              <a:ext cx="1729440" cy="18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71600" y="5546880"/>
              <a:ext cx="3505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liste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to music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181480" y="685800"/>
            <a:ext cx="2743200" cy="3205080"/>
            <a:chOff x="5181480" y="685800"/>
            <a:chExt cx="2743200" cy="32050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181480" y="685800"/>
              <a:ext cx="274320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95600" y="2151000"/>
              <a:ext cx="1851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make my be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685800"/>
            <a:ext cx="3124080" cy="2782800"/>
            <a:chOff x="762120" y="685800"/>
            <a:chExt cx="3124080" cy="27828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089360" y="685800"/>
              <a:ext cx="244368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2120" y="2155680"/>
              <a:ext cx="3124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I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 clean</a:t>
              </a: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 my bedroo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334120" y="228600"/>
            <a:ext cx="2895480" cy="3577680"/>
            <a:chOff x="5334120" y="228600"/>
            <a:chExt cx="2895480" cy="35776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588280" y="228600"/>
              <a:ext cx="1644480" cy="21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34120" y="2066400"/>
              <a:ext cx="2895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play with my teddy bea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3520" y="3554280"/>
            <a:ext cx="3504960" cy="3305520"/>
            <a:chOff x="533520" y="3554280"/>
            <a:chExt cx="3504960" cy="330552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1124280" y="3554280"/>
              <a:ext cx="1729440" cy="18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33520" y="5546880"/>
              <a:ext cx="350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liste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to music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52880" y="3886200"/>
            <a:ext cx="2743200" cy="3205080"/>
            <a:chOff x="4952880" y="3886200"/>
            <a:chExt cx="2743200" cy="320508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4952880" y="3886200"/>
              <a:ext cx="274320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067000" y="5351400"/>
              <a:ext cx="1851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make my be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4876920" y="380880"/>
            <a:ext cx="3124080" cy="2782800"/>
            <a:chOff x="4876920" y="380880"/>
            <a:chExt cx="3124080" cy="27828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204160" y="380880"/>
              <a:ext cx="244368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876920" y="1850760"/>
              <a:ext cx="3124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I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 clean</a:t>
              </a: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 my bedroo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181480" y="3124080"/>
            <a:ext cx="2895840" cy="3577680"/>
            <a:chOff x="5181480" y="3124080"/>
            <a:chExt cx="2895840" cy="35776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5436000" y="3124080"/>
              <a:ext cx="1644840" cy="21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181480" y="4961880"/>
              <a:ext cx="2895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play with my teddy bea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066680" y="3352680"/>
            <a:ext cx="3505320" cy="3305520"/>
            <a:chOff x="1066680" y="3352680"/>
            <a:chExt cx="3505320" cy="330552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1657440" y="3352680"/>
              <a:ext cx="1729440" cy="18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66680" y="5345280"/>
              <a:ext cx="3505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liste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to music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14400" y="457200"/>
            <a:ext cx="2743200" cy="3205080"/>
            <a:chOff x="914400" y="457200"/>
            <a:chExt cx="2743200" cy="320508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914400" y="457200"/>
              <a:ext cx="274320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028520" y="1922400"/>
              <a:ext cx="1851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make my be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4648320" y="3429000"/>
            <a:ext cx="3124080" cy="2782800"/>
            <a:chOff x="4648320" y="3429000"/>
            <a:chExt cx="3124080" cy="2782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975560" y="3429000"/>
              <a:ext cx="244368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648320" y="4898880"/>
              <a:ext cx="3124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I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 clean</a:t>
              </a:r>
              <a:r>
                <a:rPr b="1" lang="zh-CN" sz="4000" spc="-1" strike="noStrike">
                  <a:solidFill>
                    <a:srgbClr val="66ff33"/>
                  </a:solidFill>
                  <a:latin typeface="Arial"/>
                </a:rPr>
                <a:t> my bedroo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90720" y="2895480"/>
            <a:ext cx="2895480" cy="3577680"/>
            <a:chOff x="990720" y="2895480"/>
            <a:chExt cx="2895480" cy="35776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244880" y="2895480"/>
              <a:ext cx="1644480" cy="21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990720" y="4733280"/>
              <a:ext cx="2895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play with my teddy bea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914400" y="228600"/>
            <a:ext cx="3505320" cy="3305520"/>
            <a:chOff x="914400" y="228600"/>
            <a:chExt cx="3505320" cy="330552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505160" y="228600"/>
              <a:ext cx="1729440" cy="18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914400" y="2221200"/>
              <a:ext cx="3505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liste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to music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81480" y="457200"/>
            <a:ext cx="2743200" cy="3205080"/>
            <a:chOff x="5181480" y="457200"/>
            <a:chExt cx="2743200" cy="320508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274320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295600" y="1922400"/>
              <a:ext cx="1851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 make my be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3808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hat do you do in your bedro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" y="2209680"/>
            <a:ext cx="2286000" cy="1264320"/>
            <a:chOff x="457200" y="2209680"/>
            <a:chExt cx="2286000" cy="126432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696600" y="2209680"/>
              <a:ext cx="17881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3136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ff33"/>
                  </a:solidFill>
                  <a:latin typeface="Arial"/>
                </a:rPr>
                <a:t>I</a:t>
              </a: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 clean</a:t>
              </a:r>
              <a:r>
                <a:rPr b="1" lang="zh-CN" sz="1600" spc="-1" strike="noStrike">
                  <a:solidFill>
                    <a:srgbClr val="66ff33"/>
                  </a:solidFill>
                  <a:latin typeface="Arial"/>
                </a:rPr>
                <a:t> my bedroo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048120" y="2057400"/>
            <a:ext cx="1752480" cy="1642680"/>
            <a:chOff x="3048120" y="2057400"/>
            <a:chExt cx="1752480" cy="164268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201840" y="2057400"/>
              <a:ext cx="995400" cy="124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48120" y="311940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 play with my teddy bea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00600" y="2209680"/>
            <a:ext cx="1600200" cy="1500120"/>
            <a:chOff x="4800600" y="2209680"/>
            <a:chExt cx="1600200" cy="150012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209680"/>
              <a:ext cx="1600200" cy="117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67200" y="312912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 make my be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05720" y="2286000"/>
            <a:ext cx="1752480" cy="1558440"/>
            <a:chOff x="6705720" y="2286000"/>
            <a:chExt cx="1752480" cy="155844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7000920" y="2286000"/>
              <a:ext cx="864720" cy="9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05720" y="326376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liste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to musi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828800" cy="1438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raw a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971800" y="3886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9548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read a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91320" y="3962520"/>
            <a:ext cx="1477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rcRect l="0" t="0" r="0" b="33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267080" y="5486400"/>
            <a:ext cx="60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bed</a:t>
            </a:r>
            <a:r>
              <a:rPr b="1" lang="en-US" sz="6600" spc="-1" strike="noStrike">
                <a:solidFill>
                  <a:srgbClr val="66ff33"/>
                </a:solidFill>
                <a:latin typeface="Arial"/>
              </a:rPr>
              <a:t>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90920" y="3886200"/>
            <a:ext cx="3504960" cy="2819520"/>
            <a:chOff x="2590920" y="3886200"/>
            <a:chExt cx="3504960" cy="2819520"/>
          </a:xfrm>
        </p:grpSpPr>
        <p:sp>
          <p:nvSpPr>
            <p:cNvPr id="43" name=""/>
            <p:cNvSpPr/>
            <p:nvPr/>
          </p:nvSpPr>
          <p:spPr>
            <a:xfrm>
              <a:off x="4191120" y="5410080"/>
              <a:ext cx="1752480" cy="129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flipV="1">
              <a:off x="4647960" y="480024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3886200"/>
              <a:ext cx="3504960" cy="26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6477120" cy="431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7242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8120" y="609480"/>
            <a:ext cx="3580920" cy="2286000"/>
            <a:chOff x="3048120" y="609480"/>
            <a:chExt cx="3580920" cy="2286000"/>
          </a:xfrm>
        </p:grpSpPr>
        <p:grpSp>
          <p:nvGrpSpPr>
            <p:cNvPr id="49" name=""/>
            <p:cNvGrpSpPr/>
            <p:nvPr/>
          </p:nvGrpSpPr>
          <p:grpSpPr>
            <a:xfrm>
              <a:off x="3048120" y="609480"/>
              <a:ext cx="1676160" cy="2286000"/>
              <a:chOff x="3048120" y="609480"/>
              <a:chExt cx="1676160" cy="2286000"/>
            </a:xfrm>
          </p:grpSpPr>
          <p:pic>
            <p:nvPicPr>
              <p:cNvPr id="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838080"/>
                <a:ext cx="167616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3048120" y="609480"/>
                <a:ext cx="1676160" cy="228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 flipH="1">
              <a:off x="4647960" y="1752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400800" y="8380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Arial"/>
              </a:rPr>
              <a:t>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400" y="1809720"/>
            <a:ext cx="7467840" cy="504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126684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62520" y="2971800"/>
            <a:ext cx="11998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181480" y="2971800"/>
            <a:ext cx="1200240" cy="108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6094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hat do you do in your bed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40360"/>
            <a:chOff x="0" y="0"/>
            <a:chExt cx="9144000" cy="6840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80880" y="5334120"/>
              <a:ext cx="6172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66ff33"/>
                  </a:solidFill>
                  <a:latin typeface="Arial"/>
                </a:rPr>
                <a:t>I make my bed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8320" y="5410080"/>
            <a:ext cx="1666800" cy="1247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66680" y="52531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895480" y="48006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52680" y="380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cle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98 0.12185 C -0.04166 0.19284 -0.05017 0.26428 -0.02361 0.27931 C 0.00261 0.29457 0.075 0.23237 0.12466 0.21226 C 0.17448 0.19237 0.23889 0.14868 0.27483 0.15931 C 0.31077 0.16995 0.32709 0.23446 0.33976 0.27561 C 0.35243 0.31654 0.34861 0.3748 0.3507 0.40555 C 0.35261 0.43631 0.33785 0.43839 0.35226 0.46081 C 0.36632 0.48324 0.40764 0.52694 0.43525 0.53966 C 0.46355 0.55237 0.49219 0.55469 0.5191 0.53781 C 0.54618 0.52093 0.57639 0.47191 0.59809 0.43908 C 0.6198 0.40625 0.63941 0.36532 0.64914 0.34058 C 0.65903 0.31607 0.64879 0.30336 0.65695 0.29133 C 0.66493 0.27908 0.68872 0.27145 0.69723 0.26752 C 0.70573 0.26359 0.70695 0.26567 0.70816 0.26752 E">
                                      <p:cBhvr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448920" cy="6601320"/>
            <a:chOff x="0" y="0"/>
            <a:chExt cx="9448920" cy="66013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990720" y="0"/>
              <a:ext cx="739116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5410080"/>
              <a:ext cx="944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66ff33"/>
                  </a:solidFill>
                  <a:latin typeface="Arial"/>
                </a:rPr>
                <a:t>I</a:t>
              </a:r>
              <a:r>
                <a:rPr b="1" lang="zh-CN" sz="7200" spc="-1" strike="noStrike">
                  <a:solidFill>
                    <a:srgbClr val="ff3300"/>
                  </a:solidFill>
                  <a:latin typeface="Arial"/>
                </a:rPr>
                <a:t> clean</a:t>
              </a:r>
              <a:r>
                <a:rPr b="1" lang="zh-CN" sz="7200" spc="-1" strike="noStrike">
                  <a:solidFill>
                    <a:srgbClr val="66ff33"/>
                  </a:solidFill>
                  <a:latin typeface="Arial"/>
                </a:rPr>
                <a:t> my bedroom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0"/>
            <a:ext cx="5029200" cy="4437360"/>
            <a:chOff x="0" y="0"/>
            <a:chExt cx="5029200" cy="44373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29200" cy="41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33520" y="3429000"/>
              <a:ext cx="4114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listen t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029200" y="3048120"/>
            <a:ext cx="3486240" cy="3409920"/>
            <a:chOff x="5029200" y="3048120"/>
            <a:chExt cx="3486240" cy="34099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029200" y="3848040"/>
              <a:ext cx="348624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181480" y="3048120"/>
              <a:ext cx="2895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ff33"/>
                  </a:solidFill>
                  <a:latin typeface="Arial"/>
                </a:rPr>
                <a:t>music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90720" y="914400"/>
            <a:ext cx="6781680" cy="4757040"/>
            <a:chOff x="990720" y="914400"/>
            <a:chExt cx="6781680" cy="47570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133720" y="914400"/>
              <a:ext cx="33462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90720" y="4572000"/>
              <a:ext cx="6781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listen</a:t>
              </a: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 to music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8-17T09:07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